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3110-932D-432A-9008-22CB5335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857D-DBFB-4910-AAEB-E400496F4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A30B-6391-40FE-8C8F-6D52C986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213-9483-46F0-A274-23FFED4E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924-7421-4DED-AF64-40B7AF89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011-EEF8-4EE3-9761-19AB197E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8FF-8E1F-4A1A-8A35-51966286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664-583A-49A5-A383-C039F5E9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D92-A9ED-4462-89C6-E355F20A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D47-48CA-4C4C-86DA-DDF82001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F02-8480-4748-939E-CB7F4150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9572-0293-442D-9E7A-182818BF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8AA7-2BA4-4096-8411-D2A2E76F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FB2-B032-4090-8089-AC46B70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F3AC-D957-41E0-88C0-CE3C7C3E6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Verdana"/>
              </a:rPr>
              <a:t>No momento, a permissão para esta apresentação está restrita. Ela só pode ser aberta usando o Microsoft Office 2003 ou posterior. Você pode solicitar ao autor da apresentação o envio de uma cópia que possa ser lida usando o Complemento do Rights Management para o Internent Explor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6-11-18T02:26:21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